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gif" ContentType="image/gif"/>
  <Override PartName="/ppt/media/image5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4.gif" ContentType="image/gif"/>
  <Override PartName="/ppt/media/image8.png" ContentType="image/png"/>
  <Override PartName="/ppt/media/image10.gif" ContentType="image/gif"/>
  <Override PartName="/ppt/media/image13.png" ContentType="image/png"/>
  <Override PartName="/ppt/media/image9.wmf" ContentType="image/x-wmf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8D9-FCD8-4219-9CA1-F4C308EA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3AD-7203-4A25-9960-7BD8C738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740-4C4B-4FA0-85C3-0DCACE11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E5D-6B95-4E51-8E5C-721954E8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731-2348-4D1D-AFE1-4FF63DE4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009-A7F1-48DE-8F9F-72F11492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073-F41D-47B0-94B2-509A9BD4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01F-E3AF-4AB3-9D83-20BD0265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502-E072-4C75-A144-43EE6153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4B4-0998-4FE8-9ABE-02F24A75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C67-0708-4136-B702-EA0D48D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FCA-7949-4FAE-B0E3-3A1D0F8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7A1-6476-4DBA-AF47-2FA210780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ws.1september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76400" y="828720"/>
            <a:ext cx="5781600" cy="28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мя числительно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часть реч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46160"/>
            <a:ext cx="8436240" cy="16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14200" y="1571760"/>
          <a:ext cx="8715600" cy="4432320"/>
        </p:xfrm>
        <a:graphic>
          <a:graphicData uri="http://schemas.openxmlformats.org/drawingml/2006/table">
            <a:tbl>
              <a:tblPr/>
              <a:tblGrid>
                <a:gridCol w="939960"/>
                <a:gridCol w="1290600"/>
                <a:gridCol w="927000"/>
                <a:gridCol w="1332000"/>
                <a:gridCol w="1327320"/>
                <a:gridCol w="1184040"/>
                <a:gridCol w="1714680"/>
              </a:tblGrid>
              <a:tr h="8046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.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 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3"/>
          <p:cNvSpPr/>
          <p:nvPr/>
        </p:nvSpPr>
        <p:spPr>
          <a:xfrm>
            <a:off x="948600" y="621540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изменяются только по падеж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1928880" y="3643200"/>
            <a:ext cx="214200" cy="2145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1928880" y="4857840"/>
            <a:ext cx="214200" cy="21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133200"/>
            <a:ext cx="8727840" cy="14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57120" y="1428840"/>
          <a:ext cx="8429760" cy="3717720"/>
        </p:xfrm>
        <a:graphic>
          <a:graphicData uri="http://schemas.openxmlformats.org/drawingml/2006/table">
            <a:tbl>
              <a:tblPr/>
              <a:tblGrid>
                <a:gridCol w="2357640"/>
                <a:gridCol w="6072120"/>
              </a:tblGrid>
              <a:tr h="22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числитель-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ва</a:t>
                      </a: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да  </a:t>
                      </a: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ва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-  </a:t>
                      </a: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етыре.</a:t>
                      </a: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купили </a:t>
                      </a:r>
                      <a:r>
                        <a:rPr b="0" lang="ru-RU" sz="3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и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тетради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й открывается 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3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сять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часов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-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венел </a:t>
                      </a: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воно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500040" y="55742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могут быть разными членами предложения, а порядковые обычно бывают опреде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-133200"/>
            <a:ext cx="889956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85840" y="928800"/>
          <a:ext cx="8572320" cy="464328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11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ые числ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лы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робные 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биратель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ве трети</a:t>
                      </a: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еме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вадцать два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одна десятая</a:t>
                      </a: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д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"/>
          <p:cNvSpPr/>
          <p:nvPr/>
        </p:nvSpPr>
        <p:spPr>
          <a:xfrm>
            <a:off x="214200" y="571716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делятся на три группы: целые, дробные и собир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ubPieSlice"/>
          <p:cNvSpPr/>
          <p:nvPr/>
        </p:nvSpPr>
        <p:spPr>
          <a:xfrm rot="6690600">
            <a:off x="3637800" y="4066920"/>
            <a:ext cx="1414440" cy="1414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j0343297"/>
          <p:cNvPicPr/>
          <p:nvPr/>
        </p:nvPicPr>
        <p:blipFill>
          <a:blip r:embed="rId2"/>
          <a:stretch/>
        </p:blipFill>
        <p:spPr>
          <a:xfrm>
            <a:off x="7000920" y="4000680"/>
            <a:ext cx="1361880" cy="1377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5" descr="j0223774"/>
          <p:cNvPicPr/>
          <p:nvPr/>
        </p:nvPicPr>
        <p:blipFill>
          <a:blip r:embed="rId3"/>
          <a:stretch/>
        </p:blipFill>
        <p:spPr>
          <a:xfrm rot="21352200">
            <a:off x="609480" y="4263840"/>
            <a:ext cx="140184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73080"/>
            <a:ext cx="8654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57120" y="1714680"/>
          <a:ext cx="8358120" cy="2803320"/>
        </p:xfrm>
        <a:graphic>
          <a:graphicData uri="http://schemas.openxmlformats.org/drawingml/2006/table">
            <a:tbl>
              <a:tblPr/>
              <a:tblGrid>
                <a:gridCol w="1857600"/>
                <a:gridCol w="2857320"/>
                <a:gridCol w="3643200"/>
              </a:tblGrid>
              <a:tr h="609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а числительны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со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ёхсоты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двадцать т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сти шестнадцать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"/>
          <p:cNvSpPr/>
          <p:nvPr/>
        </p:nvSpPr>
        <p:spPr>
          <a:xfrm>
            <a:off x="214200" y="493236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0" descr="30"/>
          <p:cNvPicPr/>
          <p:nvPr/>
        </p:nvPicPr>
        <p:blipFill>
          <a:blip r:embed="rId2"/>
          <a:stretch/>
        </p:blipFill>
        <p:spPr>
          <a:xfrm>
            <a:off x="6858000" y="4857840"/>
            <a:ext cx="17334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60480"/>
            <a:ext cx="8582040" cy="17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57120" y="1857240"/>
          <a:ext cx="8429760" cy="3143520"/>
        </p:xfrm>
        <a:graphic>
          <a:graphicData uri="http://schemas.openxmlformats.org/drawingml/2006/table">
            <a:tbl>
              <a:tblPr/>
              <a:tblGrid>
                <a:gridCol w="2809800"/>
                <a:gridCol w="2810160"/>
                <a:gridCol w="2809800"/>
              </a:tblGrid>
              <a:tr h="1070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не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 конц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 16, 17, 18, 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20 и 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м 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80 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0 до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214200" y="550188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помнить эти правила выполните упраж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те мягкий знак в числительные там, где это необходим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6760" y="1285560"/>
            <a:ext cx="83581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то прочитал пят…надцать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пят..сот уче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но восем..сот экземпляров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аже есть сем..надцать видов обое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бака – шест..десят лит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двад…цать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ахали девят..надцать гектаров зем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ано девят..сот руб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пят..десят километров доро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ании восем..надцать этаж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2600" y="128556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то прочитал пятнадцать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п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уче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но восем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экземпляров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аже есть семнадцать видов обое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бака – шес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 лит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двадцать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ахали девятнадцать гектаров зем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ано дев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руб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п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 километров доро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ании восемнадцать этаж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5480" y="9997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числительные делятся на два  разряда: количественные и порядков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в свою очередь делятся на три группы: целые, дробные и  собир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обенностям строения 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ительных от5 до 20 и в числительном 30 на конце пишется мягкий знак. В числительных от 50 до 80 и от 500 до 900 в середине пишется мягкий зн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5480" y="85680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В каком предложении из произведений С.Маршака употреблено порядковое числитель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Да послышался вдали выстрел из двуствол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Распустился ландыш в мае, в самый праздник, в первый ден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«Бьют часы Кремлёвской башни, свой салют двенадцать раз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«На столе он строит башни, строит город в пять мину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0" descr="30"/>
          <p:cNvPicPr/>
          <p:nvPr/>
        </p:nvPicPr>
        <p:blipFill>
          <a:blip r:embed="rId1"/>
          <a:stretch/>
        </p:blipFill>
        <p:spPr>
          <a:xfrm>
            <a:off x="5654520" y="4572000"/>
            <a:ext cx="207972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4200" y="2854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Укажите 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мя числительное – это самостоятельная часть речи, которая обозначает предмет и его порядок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мя числительное – это самостоятельная часть речи, которая обозначает количество предметов, число, а также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мя числительное – это служебная часть речи, которая обозначает количество предметов, число, а также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мя числительное – это самостоятельная часть речи, которая обозначает признак предм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7" descr="j0233972"/>
          <p:cNvPicPr/>
          <p:nvPr/>
        </p:nvPicPr>
        <p:blipFill>
          <a:blip r:embed="rId1"/>
          <a:stretch/>
        </p:blipFill>
        <p:spPr>
          <a:xfrm rot="565800">
            <a:off x="7165440" y="5498640"/>
            <a:ext cx="1338480" cy="125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ект для 6 класс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ительное как часть реч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Кудрявцева Виктория Анатолье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курс, филологический факульт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ктывкар 2010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Укажите не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рок восемь – это целое чис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а треть – дробное числ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о – собирательное числи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рое – собирательное числ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Цифрами записаны количественные числительные. Укажите строчку, к которой все числительные являются прост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9, 15, 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8, 1000, 100,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9999, 300, 4,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3, 29, 18, 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6" descr="21M2"/>
          <p:cNvPicPr/>
          <p:nvPr/>
        </p:nvPicPr>
        <p:blipFill>
          <a:blip r:embed="rId1"/>
          <a:stretch/>
        </p:blipFill>
        <p:spPr>
          <a:xfrm flipH="1">
            <a:off x="6929280" y="5286240"/>
            <a:ext cx="1198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3840" y="85716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Укажите строчку, в которой допущена ошиб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ять, пятнадцать, пятдесят, пят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емь, семнадцать, семьдесят, 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шесть, шестнадцать, шестьдесят, шест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осемь, восемнадцать, восемьдесят, во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6" descr="21M2"/>
          <p:cNvPicPr/>
          <p:nvPr/>
        </p:nvPicPr>
        <p:blipFill>
          <a:blip r:embed="rId1"/>
          <a:stretch/>
        </p:blipFill>
        <p:spPr>
          <a:xfrm flipH="1">
            <a:off x="4714920" y="4857840"/>
            <a:ext cx="1285920" cy="122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085760" y="743040"/>
            <a:ext cx="5772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язык: Учеб. для 6 кл./М.Т.Баранов, Т. А. Ладыженская и др. – М.: 2007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шина Н. С., Розенталь Д. Э. Орфография и пунктуация. М., 1970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циклопедия по русскому язы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авочники по русскому языку, 6 клас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ews.1september.r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ополагающий 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им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разряды числительных б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они так называ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зменяются числительные простые, составные и слож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писание числ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е разряды делятся количественные числи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авление результатов исследова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газ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л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презента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итель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нед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урока по 40 мин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проведения проек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и формулировка те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учащих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а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тем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числи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количественных числ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, составные и сложные числи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 знак на конце и в середине числ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42960" y="1643040"/>
          <a:ext cx="8072280" cy="407052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енные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рядко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                                                   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венадца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ерв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тонн  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исо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шр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Рисунок 1" descr="j0356784"/>
          <p:cNvPicPr/>
          <p:nvPr/>
        </p:nvPicPr>
        <p:blipFill>
          <a:blip r:embed="rId1"/>
          <a:stretch/>
        </p:blipFill>
        <p:spPr>
          <a:xfrm>
            <a:off x="5643720" y="44290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j0283494"/>
          <p:cNvPicPr/>
          <p:nvPr/>
        </p:nvPicPr>
        <p:blipFill>
          <a:blip r:embed="rId2"/>
          <a:stretch/>
        </p:blipFill>
        <p:spPr>
          <a:xfrm>
            <a:off x="1643040" y="4357800"/>
            <a:ext cx="1047600" cy="10000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3"/>
          <a:stretch/>
        </p:blipFill>
        <p:spPr>
          <a:xfrm>
            <a:off x="853920" y="231840"/>
            <a:ext cx="7351920" cy="1152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714240" y="5788800"/>
            <a:ext cx="8072640" cy="825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слова этой части речи делятся на два разряда: количественные и поряд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3:12:48Z</dcterms:created>
  <dc:creator>Zver</dc:creator>
  <dc:description/>
  <dc:language>en-US</dc:language>
  <cp:lastModifiedBy>gad</cp:lastModifiedBy>
  <dcterms:modified xsi:type="dcterms:W3CDTF">2010-05-17T13:24:53Z</dcterms:modified>
  <cp:revision>22</cp:revision>
  <dc:subject/>
  <dc:title>Слайд 1</dc:title>
</cp:coreProperties>
</file>